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4CD-9E7B-4F5B-83FD-AAB79027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087-7263-456E-ACE9-06C225E5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7F3-B6D7-4882-B1C9-D9F008E9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A26-1954-4F6D-9FBA-06EE59FC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658-4E76-4656-9366-CC8CA75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CEC-3AC4-4805-9995-317F1FE1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92F-F2FC-4CD4-814F-987DB0AE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15C-DD0A-4E70-8D3A-FAAEB14B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F0F-A80D-444C-8788-FE4BFEF5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D31-E42B-4D2A-A289-ABD81F19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DAA-3C1E-4497-8EC6-BEFAFC9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51B-6E98-4C10-ABAA-FFD28F89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6A4D-CCAF-4B67-848A-925649D43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1 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a svet raz pomi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ž sa svet raz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je verný, nezhy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ich chceš si, Pane, vzi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ú vlasť im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dar spásy oc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red trónom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čistom rúchu svät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ažená zrieť budem môc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u slávu, velebn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ar spásy ocení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red tebou budem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árou v tvár ťa pozn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ňou chvály česť ti vz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ôj, 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Pán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ar spásy ocen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05:37Z</dcterms:modified>
  <cp:revision>22</cp:revision>
  <dc:subject/>
  <dc:title>Je veľký náš Pán, on slávy je Kráľ Nech do všetkých strán  spev vrúcnych znie chvál.</dc:title>
</cp:coreProperties>
</file>